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0598-CB2D-4E8C-B9E7-F08BFA4F9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āori methodologies and how have you applied them in your researc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is the role of Māori and non-Māori researchers in using Māori health research methodologi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ow can we further encourage the development and use of Māori methodologies within the research secto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search strategic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nspired by Whakatupuranga Rua Mano, commenced 1975 by Te Wananga o Rauka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emonstrated it is possible to reclaim te reo me nga tikanga Māo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incipal researcher is Ngāti Porou ki Haratanga ki Matao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e Āitanga ā Mate, Te Aowera, Te Whānau o Rakair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4-5</a:t>
            </a:r>
            <a:r>
              <a:rPr b="0" lang="en-NZ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generation removed from Tairawh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ajority taura here – come home for tangihanga/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few speakers, kaumatua/kuia pass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iverse backgrounds/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kanohi kitea, hui, korero – gathering of information,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nsolidation of vision/consensus/endor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ānau/hapū/iwi involvemen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ractical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juvenation of cultural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D29-5274-46F5-96FC-ECD7C05D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91B-BDDC-4BD1-8AF9-6CBBF501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E38-BE84-4E4C-A197-7BADC9C5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0F3-5280-4EC2-8FBB-3F24F0A3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F62-3D49-4407-82EF-DA85BB17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F86-E75E-46AC-933A-B3FD5828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E20-437F-4F6E-99B8-AA9E8033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6E5-FC1B-4ED2-862F-CAF53F87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3B7-7567-4388-9F85-AD54C878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6BD-CC8E-4A58-B005-7E1DC747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DD5-8725-4DA8-9ADA-54F2DA1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197-5BD8-4FCB-9C2C-B31633F5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DF04-C44F-479D-BD51-884721899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Māori perspectives and positions on perinatal data colle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00000" y="4220640"/>
            <a:ext cx="6840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Stephanie Palmer, (Ngāti Poro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Director, Tūmana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Likely costs of participation for Māori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re data collec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essure for consent to post-mor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paration, photos, invasive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issue samples, tissue/gene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issue storage/banking (for many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kelihood of further unspecified studies, sharing of data/tissues, de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adequacy of informed consent, consultation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ack of confidence in monitoring, audit, recording, tracking, reporting and data collection syste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ormalisation of a medicalised approach to life and death, the globalised identit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cus on the physiological causes of death instead of the  experience of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cus on individual rather than collective need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Likely costs of participation for Māori – cont’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ismantling of core cultural experiences essential to the formation of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capacity to deal with birth and death, including miscarriage, stillbirth and the loss of a ba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ransmission of whānau-centred rituals and r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ability to protect ngā tāonga tuku iho - tikanga, whakapapa kōrero, kāwai tūpuna, the cultural capital of future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 tikanga around birth and death should be driven by whānau values and beli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 general disregard for cultural values - mana, tapu, mauri, whakapapa, whakawhanaungat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 continual fragmentation of te whare tang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few opportunities to contribute to the repository of cultural knowledge, oppression of cultural identity and experience by dominant values and vi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pursuit of knowledge simply because know-how is valued more than know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 know-why approach enables discussion and debate about the need for knowledge within the context of its implications for culture, human relationships and future gen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  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urrent initiatives for Māori</a:t>
            </a: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ānui for Māori whān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bjectives of PMM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ātauranga Māori perspectives and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ost-mortem techniques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pportunity to opt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s default posi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ew have courage to sign out of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ill opt-out in other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Kaitiakitan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establishment of a kaitiaki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 protection and promotion of ngā tāonga tuku iho within PMMR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echanisms to retain ownership, authority, control and guardianship over Māori health resources – data, tissues and g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involvement in decision-making about collection, analysis, storage, ownership, access, use and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ossible collaboration with established groups – eg cervical cancer registr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āori perspectives &amp; issues – whānau or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63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36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Main Goal</a:t>
            </a: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reduce the number of preventable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erinatal and maternal deaths</a:t>
            </a:r>
            <a:br>
              <a:rPr sz="2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32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urrent directions and achieve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establish a process and system for the collection of data on perinatal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develop and pilot Rapid Reporting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 train DHB co-ordin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 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Key Issues for Māori – increasing ra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creasing rates for all groups, especially Mā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ource:  NZHIS Maternal &amp; Newborn Information 2000-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4608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Key issues for Māori – stillbirth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oughly 70% of perinatal deaths are stillbir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creasing for all groups except Europ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ource:  NZHIS Maternal &amp; Newborn Information, 2000-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4753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Key issues for Māori – cause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biological + social + cultural + environmental + behavioural + 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tegrated, multi-variate, lifespan models to explain relationships betwe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ternal age and socio-economic status are known risk factors for stillbirth in 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vast majority of stillbirths amongst whānau who are most depr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Key issues for Māori – causes cont’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quality of ca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erinatal Mortality Rates by DHB 200-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ource:  Maternal &amp; Newborn INformation 2002, 2003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9770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Key issues for Māori – causes cont’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2001, 72% of perinatal deaths were due to “conditions originating in the perinatal period” and 22% were due to “congenital abnormalities” (MoH,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f 387 fetal deaths in 2001, 54% were “unexplained” (MoH,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tween 1980-1999, the late fetal death rate fell by 4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9% decrease in intrapartum 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70% decrease in congenital ano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decrease in the number of deaths from unspecified conditions (Craig et al, 200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all for post-mortems to explain the unspecified d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PMMRC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Likely benefits of participation for Māori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ed knowledge-base on the biological/physiological causes of perinatal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wer fetal deaths from “unspecified” (uninvestigated) 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ements in perinatal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creening for previously “unspecified” 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ption to terminat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re obstetric care - early intervention/treatment to prevent death (drugs, technology, monitor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pansion of the perinatal mortality data set with opportunities to explore relationships between social, biological, environmental facto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7:31:17Z</dcterms:created>
  <dc:creator>Stephanie Palmer</dc:creator>
  <dc:description/>
  <dc:language>en-US</dc:language>
  <cp:lastModifiedBy>Stephanie Palmer</cp:lastModifiedBy>
  <dcterms:modified xsi:type="dcterms:W3CDTF">2007-03-29T10:29:02Z</dcterms:modified>
  <cp:revision>19</cp:revision>
  <dc:subject/>
  <dc:title>Māori Health Research Methodologies</dc:title>
</cp:coreProperties>
</file>