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82B-007E-4E52-A0E1-47D39538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88B-EF55-4C9B-B47D-8B56EAAB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4BF-6502-4A2B-91DD-D177C82F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CF3-4558-4695-BFB1-C067632E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CD2-4E2A-43F4-A0B2-DA41F7CC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100-52D4-4FE9-91AC-24082078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892-6550-48C0-B628-F6994896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65C-809D-4CB5-9B5E-99AD0C0A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80629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F3A-F33F-4DA2-90F9-EF8DBB71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345-01AD-430E-A983-7107AE0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8F2-6FFD-4716-9F69-86FFEA3B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2AE-80AB-40DE-BFF0-BFABCFA4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06292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FBD480-5131-4AB6-A515-C3CD2D25698C}" type="slidenum">
              <a:rPr b="0" lang="en-N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-160200"/>
            <a:ext cx="80643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2133360"/>
            <a:ext cx="80643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ŪPURI I TE WHENUA N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 Narrow"/>
              </a:rPr>
              <a:t>Harataunga 2B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 Narrow"/>
              </a:rPr>
              <a:t>(Hold onto this land, never sell this l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 Narrow"/>
              </a:rPr>
              <a:t>Harataunga Marae Trust, November 2006</a:t>
            </a:r>
            <a:r>
              <a:rPr b="1" lang="en-NZ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20320"/>
            <a:ext cx="8353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6.  Pressure on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50 families - what will they need/tak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creased pressure on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wice the population – noise, pollution,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ater, roads, waste-water, beach, 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oats, jet skis, water skis, cars/bikes/motorbikes/quad bikes/helicop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ridge, bush, vehicles/fires on the beach, playground at k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welling of population at Christmas/holi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ore cars on the hill/roads,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sumption of boat access down estuar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afety of roads, moana, communit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emand for shops, facilities, café’s, commerci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lobalised values/aspirations/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evelopment driven by majority group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creas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90080"/>
            <a:ext cx="8964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7.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Marginalisation of Maori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50 families – what will they contribute/br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250 newcomers/tauiwi/stran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concentrated around marae/ngākau of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onopoly on entrance to takutai mo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ill outnumber resident Māori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no understanding of Māori world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ould they be willing to assist/support te ao Māori objectives/aspiration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mana ātua, mana whenua, mana tang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hakapa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akutai mo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protection of the right to participate in society as Mā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revitalisation of te reo Māori, tikanga, kaupa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socialisation/normalisation of Māori world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hakamana te tuku whe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emphasis on materialism/personal property rights/individual gain instead of collectivity and kaitiakitan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idening of the gap between rich/poor, haves/have nots, relative wealth/poverty, mainstreamschool/kura, knowledge/matauranga, law/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84600"/>
            <a:ext cx="806436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8.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Need to protect indigenous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ternational covenants, conventions,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Universal Declaration of Human Rights (1948); International Covenant on Civil and Political Rights; International Covenant on Economic, Social &amp; Cultural Rights; United Nations Declaration on the Rights of Indigenous Peoples; Indigenous Children &amp; Youth; Convention on the Rights of the Child; Indigenous People &amp; the Environment; International Covenant on Economic, Social &amp; Cultural Rights (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otection of indigenous right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njoy their own culture and freely participate in the cultural life of thei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reedom from the threat of survival as a distinct cultural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lf-determination and freedom from 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rotection and preservation of traditional lands, resources and sites which are the source of cultural heritage and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njoy physical and mental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ternational recognition that cultural identity is inseparable from traditional lands and protection of the environment is an utmost priority for indigenou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20320"/>
            <a:ext cx="8064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HARATAUNGA 2B2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WHY SUBDIVIDE? WHY SEL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uku whe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akapa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llegal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reaty 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mpact on mana whe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essure on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rginalisation of Māori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eed to protect indigenous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Reasons to 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ersonal gain/gr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control/pow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58920"/>
            <a:ext cx="806436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IMPACT OF MARGINALISATION 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NZ experience/Psycho-social 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ter-generational bitterness, tension, intolerance, unresolved gri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jority/minority group rivalry/tension/war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isparity in housing/living conditions, wealth/opportunity, socio-economi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creased crime, delinquency, unemployment, gambling, dependency, poverty, drug/alcohol/substance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creased morbidity/mortality – more cancer, heart disease, diabetes, infectious/respiratory disease, teenage pregnancy, lower life expec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known health effects - depression, drug and alcohol addiction, smoking, affective disorders, anger, violence, admission &amp; readmission to psychiatric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-84600"/>
            <a:ext cx="806436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IMPACT OF MARGINALISATION 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Lo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idespread opposition (400 signatur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f we can’t have it, they won’t either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y as well go down figh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ake the lot or they will get i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ait till they’re on their ow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t they are here to take more la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only thing that will stop them is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rypsters vs bloodsters 4e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o cares, they’ve taken it all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6488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ALTERNATIVES TO SUB-DIVISION/SALE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1.  Do not sell Harataunga 2B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ne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monstration of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akamana te tuku whe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pportunity to redress the grievance of dispos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na tangata, mana Mā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ime to plan/project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no income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not in collective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84600"/>
            <a:ext cx="91440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ALTERNATIVES TO SUB-DIVISION/SALE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2.  Wait for settlement of Treaty Cla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ives Ngāti Porou the opportunity to buy the land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urangawaewae of 49 ow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na tangata, mana Mā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akamana te tuku whe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llective ow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ime to plan/project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tual financial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claim may take up to 5 years to s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no immediate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still working on Ngāti Porou governance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58920"/>
            <a:ext cx="91440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ALTERNATIVES TO SUB-DIVISION/SALE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3.  Lease/sell land/buildings to descendants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wnership of land is retained within i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9 owners have opportunity to occ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come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akamana te tuku whe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na tangata, mana Mā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come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pressure o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infra-structure issues need to be add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20320"/>
            <a:ext cx="8064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1.  Tuku When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rataunga is gifted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fted to Te Aitanga-a-Mate, Te Aowera, Te Whānau o Rakairo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fted by Pāora te Putu on behalf of Tamatepō, Tamaterā, Ngāti Whanaunga, Huarere, Marutua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rataunga is a tribute and acknowledgement of mutually beneficial strategic alli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84600"/>
            <a:ext cx="91440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ALTERNATIVES TO SUB-DIVISION/SALE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4. Lease land/buildings to anyon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wnership of land is retained within i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9 owners have opportunity to occ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come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akamana te tuku whe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na tangata, mana Mā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tauiwi coming into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pressure o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infra-structure issues need to be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49 owners may mis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84600"/>
            <a:ext cx="806436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BENEFITS OF TAUIWI SUB-DIVISION/SALE 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ne for i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ersonal/financial gain for Hobson-D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600200"/>
            <a:ext cx="8064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68040"/>
            <a:ext cx="806436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Narrow"/>
              </a:rPr>
              <a:t>POSSIBLE STRATEGIES FOR MEDIATING THE IMPACT OF TAUIWI SUB-DIVISION/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instate turangawaewae through reserve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ōwhiri kanohi-kit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ramework for monitoring cultural/environmental well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inancial contribution to community hotspots – papatākaro, bridge, mar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inancial contribution to community safety – foot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integrity of turangawaewae, eg cannot be used for toilets/p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cost of pōwhiri (time, people, facil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cost of monitoring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cost of financial con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 te wahine ka tupu ai te hanga nei, te tangata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 te whenua ka whai oranga ai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i hoki, ki te tangohia to wahine e te tangata ke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Ka ngau te pouri ki roto I a koe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a, ki te tangohia te whenua e te tangata ke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Ka tupu to pouri ano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Ko Nga putake enei o te whawhai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Koia I kiia ai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e wahine, he oneone, I ngaro I te tangata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the loss of our land will not be accepted ligh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20320"/>
            <a:ext cx="8064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2.  Whakap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 accepting this gift, Ngāti Porou agreed to honour and respect its intentions and aspi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purpose of the gift was occu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117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gā hapū e toru was not given the right to s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descendants of ngā hapū e toru have a collective obligation to uphold this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obert McLeod of the Hobson-Downs Trust is a descendant of ngā hapū e t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20320"/>
            <a:ext cx="8064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3.  Illegal S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ale of Harataunga 2B2 was ille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8% agreed to the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5% agreement was needed by l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9/66 owners were not told of the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9 owners were illegally dispossessed of their tūrangawaew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dispossessed owners are whānau and whanaunga of ngā hapū e toru, our own cousins and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20320"/>
            <a:ext cx="8064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4.  Treaty Cla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rataunga 2B2 is part of a Treaty Cla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treaty claim seeks compensation for the illegal sale of Harataunga 2B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ttlement of Treaty claim will provide an opportunity to reinstate the dispossed ow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369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5.  Impact on mana whenua - not one but 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440000"/>
            <a:ext cx="86407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Impact on mana whenua – 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430280"/>
            <a:ext cx="87822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NZ" sz="4000" spc="-1" strike="noStrike">
                <a:solidFill>
                  <a:srgbClr val="000000"/>
                </a:solidFill>
                <a:latin typeface="Arial Narrow"/>
              </a:rPr>
              <a:t>Impact on mana whenua – plus 1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430280"/>
            <a:ext cx="8820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REASONS NOT TO SELL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NZ" sz="3600" spc="-1" strike="noStrike">
                <a:solidFill>
                  <a:srgbClr val="000000"/>
                </a:solidFill>
                <a:latin typeface="Arial Narrow"/>
              </a:rPr>
              <a:t>Impact on mana whenua – plus 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7440" y="1430280"/>
            <a:ext cx="87822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21:27:04Z</dcterms:created>
  <dc:creator>Stephanie Palmer</dc:creator>
  <dc:description/>
  <dc:language>en-US</dc:language>
  <cp:lastModifiedBy>Stephanie Palmer</cp:lastModifiedBy>
  <dcterms:modified xsi:type="dcterms:W3CDTF">2011-01-14T00:52:24Z</dcterms:modified>
  <cp:revision>33</cp:revision>
  <dc:subject/>
  <dc:title>Slide 1</dc:title>
</cp:coreProperties>
</file>