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0F5-C4FE-459D-8380-AAF1F2E9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962-236A-445A-9B5C-BFFC4DF9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751-754F-4D80-9EFE-271BC23E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EB3-4163-4A9F-BB59-2E7005A4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BE8-5249-4FFD-8C52-A42655B1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8AD-82FC-4051-A6AC-325AF07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EE0-9072-44CC-8F09-2B891CAD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EA3-630E-4073-9BF1-0EF2360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8062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F3C-DF4D-4E2F-B5DB-50C4E038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E69-8BAB-458B-873B-C3A6704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DC7-09F0-459B-B4A6-2489E2D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2CE-7AEB-495E-9F88-E7BB704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1BD018-9120-4402-A0F1-E9ECCCB091EA}" type="slidenum">
              <a:rPr b="0" lang="en-N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-160200"/>
            <a:ext cx="80643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064720" cy="70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CULTURAL IMPACT ASSESS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Rationale, Process &amp; Agen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Narrow"/>
              </a:rPr>
              <a:t>4 December 2010, Harataunga Ma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4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troduce the waiora model as a framework and tool for assessing the cultural impact of sub-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vite tangata whenua/whānau Māori to take part in an assessment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re tangata whenua scores against those obtained from an independent panel of people (preferably involved in LGA/RMA decision-making about Māori RMA iss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oduce a report on the pilot outcomes with discussion about possible strategies to minimise potential impacts/mitigate negative effects (if releva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nd copies to TCDC, LGAs, Govt Depts, Whānau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89996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eaty of Waita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 as a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, political, social, economic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, customs and freedom to choose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16080" y="1628640"/>
            <a:ext cx="34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source Management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relationship of Māori and their culture and their traditions …” [are of national importance] (TDP, s110:6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articular regard to … kaitiakitanga” (TDP,s110:7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all take into account the principles of the Treaty of Waitangi (TDP, s110: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7 RMA clauses recognise Māori interests (Bell, Lomax &amp; Payne, 200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4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al Government Act, 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stablish and maintain processes … for Māori to contribute to decision-making 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ster the development of Māori capacity to contribute to the decision-making proces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 …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vide relevant information to Māori for the purposes of (above) 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local authority must ensure that it has in place processes for consulting with Māori (in accordance with the Principles of Consultation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NZ Action Plan for Human Rights, 2010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to freedom from discrimination on the grounds of race, colour or ethnic or national orig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to the equal enjoyment of civil, political, economic, social, and cultural righ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Indigenous peoples to self-determination and the protection of their language, culture, heritage, and relationship to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to enjoy one's culture and to use one's ow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to freedom of religion and belie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Key Action: Improve Māori participation/representation in Local Government decision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CDC Distri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protect the (Māori) heritage resources … and develop a positive relationship with Māori…”(s153, para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relationship of Māori and their culture and traditions ..and other taonga must be strengthened” (s204, para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ticular regard for kaitiakitanga … take into account the principles of ToW ... to act reasonably and in good faith … to recognise and provide for Māori use of their resources … to actively protect taonga (s215, para 2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awareness and understanding ... to promote effective consultation and communication .. to recognise the values of tangata whenua involved in all resource consents (s215.4, para 1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584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ther Statutes/Conventions/Declarations that highlight the need for LGAs to establish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processes for assessing the cultural impact of developments on Indigenou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205000"/>
            <a:ext cx="7993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Z Health &amp; Disability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Z Primary Health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Z Māori Health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Z Bill of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Z Human Rights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niversal Declaration of Human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ternational Convenant on Civil &amp; Political R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ternational Covenant on Economic, Social &amp; Cultural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nited Nations Declaration on the Rights of Indigenous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digenous Children &amp; Youth Convention on the Rights of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digenous People &amp;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17720"/>
                <a:tab algn="l" pos="1932120"/>
                <a:tab algn="l" pos="2846520"/>
                <a:tab algn="l" pos="3760920"/>
                <a:tab algn="l" pos="4675320"/>
                <a:tab algn="l" pos="5589720"/>
                <a:tab algn="l" pos="6504120"/>
                <a:tab algn="l" pos="7418520"/>
                <a:tab algn="l" pos="8332920"/>
                <a:tab algn="l" pos="9247320"/>
                <a:tab algn="l" pos="1016172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pilot a tool that will help LGA’s to assess and understand the cultural impact of developments for Māori (within the context of RMA decisio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1017720"/>
                <a:tab algn="l" pos="1932120"/>
                <a:tab algn="l" pos="2846520"/>
                <a:tab algn="l" pos="3760920"/>
                <a:tab algn="l" pos="4675320"/>
                <a:tab algn="l" pos="5589720"/>
                <a:tab algn="l" pos="6504120"/>
                <a:tab algn="l" pos="7418520"/>
                <a:tab algn="l" pos="8332920"/>
                <a:tab algn="l" pos="9247320"/>
                <a:tab algn="l" pos="1016172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17720"/>
                <a:tab algn="l" pos="1932120"/>
                <a:tab algn="l" pos="2846520"/>
                <a:tab algn="l" pos="3760920"/>
                <a:tab algn="l" pos="4675320"/>
                <a:tab algn="l" pos="5589720"/>
                <a:tab algn="l" pos="6504120"/>
                <a:tab algn="l" pos="7418520"/>
                <a:tab algn="l" pos="8332920"/>
                <a:tab algn="l" pos="9247320"/>
                <a:tab algn="l" pos="1016172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assess the cultural impact of sub-division in Harataunga from a tangata whenua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1017720"/>
                <a:tab algn="l" pos="1932120"/>
                <a:tab algn="l" pos="2846520"/>
                <a:tab algn="l" pos="3760920"/>
                <a:tab algn="l" pos="4675320"/>
                <a:tab algn="l" pos="5589720"/>
                <a:tab algn="l" pos="6504120"/>
                <a:tab algn="l" pos="7418520"/>
                <a:tab algn="l" pos="8332920"/>
                <a:tab algn="l" pos="9247320"/>
                <a:tab algn="l" pos="10161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17720"/>
                <a:tab algn="l" pos="1932120"/>
                <a:tab algn="l" pos="2846520"/>
                <a:tab algn="l" pos="3760920"/>
                <a:tab algn="l" pos="4675320"/>
                <a:tab algn="l" pos="5589720"/>
                <a:tab algn="l" pos="6504120"/>
                <a:tab algn="l" pos="7418520"/>
                <a:tab algn="l" pos="8332920"/>
                <a:tab algn="l" pos="9247320"/>
                <a:tab algn="l" pos="1016172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consider the specific cultural impact of 3 sub-divisions that have already been approved for development in Harataung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iora is Māori construct of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Māori construct of wellbeing will provide  an acceptable framework/starting place for tangata whenua discussions about the cultural impacts of sub-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21:27:04Z</dcterms:created>
  <dc:creator>Stephanie Palmer</dc:creator>
  <dc:description/>
  <dc:language>en-US</dc:language>
  <cp:lastModifiedBy>Stephanie Palmer</cp:lastModifiedBy>
  <dcterms:modified xsi:type="dcterms:W3CDTF">2010-12-13T03:20:16Z</dcterms:modified>
  <cp:revision>38</cp:revision>
  <dc:subject/>
  <dc:title>Slide 1</dc:title>
</cp:coreProperties>
</file>