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37B-2AFF-4998-9F0F-1CFDD8F2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719-4341-4F95-A57C-35209AF0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41F3-E5A3-4D74-A9E3-89ADC138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733-FBEB-403E-A70B-BD664FE7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1A8-2E81-4CA8-8624-469D896A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B38-0FDA-44FA-B977-069C78E2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12A-1865-4832-ABDC-10E66599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9D8-5902-4F92-B79C-86DE2B50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4B4-F2EF-45CF-BA97-A228577C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3BF-E3E9-42F3-B7B9-6B626641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AD1-930B-4526-94E4-3E975FC1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CB6-A2BC-4EA0-BC7C-44E75ACD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61DE-FBBD-41E7-B86A-02042FB2492E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ua Oranga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Key Validation Iss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ephanie Pal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 possible model for analy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ut there are more questions if we want to understand validity in the AOD contex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e Whare Tapa Whā – how do we measure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ere the phase 1 questions valid?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9840" y="1623960"/>
            <a:ext cx="84661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as Phase 1 triangulation val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What happened at the Phase 1 endpoi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60164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as the Phase 2 assumption of four dimensions vali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s the Phase 2 triangulation val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Another way of looking at the assumption of Phase 2 triang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what happens when Hua Oranga is administered at every endpoint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02:06:08Z</dcterms:created>
  <dc:creator>Stephanie Palmer</dc:creator>
  <dc:description/>
  <dc:language>en-US</dc:language>
  <cp:lastModifiedBy>Stephanie Palmer</cp:lastModifiedBy>
  <dcterms:modified xsi:type="dcterms:W3CDTF">2004-03-24T02:32:42Z</dcterms:modified>
  <cp:revision>2</cp:revision>
  <dc:subject/>
  <dc:title>Hua Oranga Key Validation Issues </dc:title>
</cp:coreProperties>
</file>