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1280" y="3813480"/>
            <a:ext cx="7921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5700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280" y="381348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81348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2550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9680" y="1557000"/>
            <a:ext cx="2550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440" y="1557000"/>
            <a:ext cx="2550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1280" y="3813480"/>
            <a:ext cx="2550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9680" y="3813480"/>
            <a:ext cx="2550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440" y="3813480"/>
            <a:ext cx="2550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53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57000"/>
            <a:ext cx="38653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0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57000"/>
            <a:ext cx="38653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1280" y="381348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53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5700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81348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57000"/>
            <a:ext cx="38653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1280" y="3813480"/>
            <a:ext cx="79214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308640"/>
            <a:ext cx="5867280" cy="333360"/>
          </a:xfrm>
          <a:prstGeom prst="rect">
            <a:avLst/>
          </a:prstGeom>
          <a:solidFill>
            <a:srgbClr val="66af2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2f1311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Copperplate Gothic Bold"/>
              </a:rPr>
              <a:t>TUMANA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948360" y="6093000"/>
            <a:ext cx="1152720" cy="765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867280" y="6093000"/>
            <a:ext cx="1152720" cy="765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101080" y="6093000"/>
            <a:ext cx="104292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55640" y="62064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56108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What is the role of Māori EC members? What are the issues for Māori? What should a Māori ethics framework look like?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4365720"/>
            <a:ext cx="708804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2f1311"/>
                </a:solidFill>
                <a:latin typeface="Arial"/>
              </a:rPr>
              <a:t>Pū Tai Or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2f1311"/>
                </a:solidFill>
                <a:latin typeface="Arial"/>
              </a:rPr>
              <a:t>18 October 200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ui Whakapiripiri 2005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concern/outrage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quality of Māori consultation proc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lack of systems for monitoring gene/tissue bank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amendments to ethics application form without consulta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introduction of Section F - Cultural &amp; Social Responsibilit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replaced Māori responsivenes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minimised Treaty of Waitangi obligation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Pū Tai Ora discussion themes 2005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Māori members ro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accountability to whānau/hapū/iwi/Māori collectiv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development of knowledge-base/education/train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protection/guardianship/kaitiakitang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quality of consultation/representati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need for consensus/consistency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no frameworks/models for decision-making on Māori ethical issu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concerns about tissue/gene banking studi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systems for auditing/monitoring/tracking – where/when/why/who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guidelines/protocols/metho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storage/access/return/disposal – national/internationa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accreditation/registration of trials/banks/faciliti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information about Māori participation/us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need for more information abou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NZ ethics system – stakeholders/decision-makers/networks/relationships eg SCOTT/GTAC/DSMB/NEA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international collaborations/system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Mataatua Declaration (other work by Māori/indigenous groups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ui Whakapiripiri 2006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Ngai Tahu ethic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focus on quality of consultatio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ikanga/protocols for disposal/identification of Māori tissue samp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another model of succes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Rod Lea effec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collection of gene samples for one purpose (smoking/criminal DNA database) used for another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warrior gene (Australia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verage Māori is at least 43% Pākeha (New Orleans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no mandate/authority/peer-review before presentation of finding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deception, misinformation, abuse of consent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exploitation of Māor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ui Whakapiripiri 2006 – cont’d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ethical issues for Mā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language as the perfect tool of conquest and acquisitio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inadequacy of informed consent proces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asked in a language that you do not understan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if not fully informed about content, consequences, manner in which findings will be used then it is not consent at all” (Moana Jackson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science/research as yet another weapon of colonisatio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colonisation of the land, colonisation of our minds, colonisation of our bodi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globalisation of culture and identit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role of Māori EC memb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toa – trained to defend our people – what skills do they need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kaitiaki – guardians/protectors of Māori culture/identity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40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4000" spc="-1" strike="noStrike">
                <a:solidFill>
                  <a:srgbClr val="2f1311"/>
                </a:solidFill>
                <a:latin typeface="Arial"/>
              </a:rPr>
              <a:t> EC members</a:t>
            </a: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7960" y="1827360"/>
            <a:ext cx="57866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 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Te Pa Harakeke o te Tangata – Kaa Williams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e Whakapap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e Ira Tanga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e Whanaungatanga, Te Matemateāone, Te Manaaki, Te Tiaki, Te Atawha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e Wairua, Mauri, Tap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e Ma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The five tests of tikanga Māori – Hirini Mead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tapu asp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mauri asp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take-utu-ea asp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precedent asp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whakapap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principles asp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whanaungatang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manaakitang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man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no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ik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Te Noho Kotahitanga – Hugh Kawharu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 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Kaupapa Māori Practices – Linda Smith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aroha ki te tangat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kanohi kit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itiro, whakarongo …. korer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manaaki ki te tanga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kia tupa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kaua e takahia te mana o te tanga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kaua e mahak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 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Koru of Māori Ethics – Manuka Henare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40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4000" spc="-1" strike="noStrike">
                <a:solidFill>
                  <a:srgbClr val="2f1311"/>
                </a:solidFill>
                <a:latin typeface="Arial"/>
              </a:rPr>
              <a:t> EC members</a:t>
            </a: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921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Operational Standard for Ethics Committees 200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Pū Tai Or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1998?, 1999, 2001, 2002, 200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Hui Whakapiripi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1996, 1997, 2005, 2006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Declara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e Mataatua Declaration 199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e Hongoeka Declaration 1996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ikanga Rangahau Mātauranga Tuku Iho 20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Other literature/contribution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Hirini Mead, Maori Marsden, Kaa Williams, Charles Royal, Moana Jackson, Mason Durie, Mere Roberts, Manuka Henare, Paul Reeves, Aroha Mead, Maui Hudson, Andrew Sporle, Jonathan Koea, Jessika Hutchings mā 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 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e Korowai Oranga – Whānau Ora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488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 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Rangahau Painga – Mason Durie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768320"/>
            <a:ext cx="77774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Māori ethical frameworks 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ōmai te Waiora ki Ahau  – Stephanie Palmer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2f1311"/>
                </a:solidFill>
                <a:latin typeface="Arial"/>
              </a:rPr>
              <a:t>Utility/Challenges</a:t>
            </a:r>
            <a:endParaRPr b="1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difficult to operationalis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requires grounding in Māori values/worldview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interpretations must have meaning for Māor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re-training/education/orientation of  belief/philosophical/value system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significant policy/resourcing implicatio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gradual implementation over tim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oo hard, too expensive, unlikely to be a priority for central governme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perceived as burdensome, obstacle, slowing down innovation, dis-incentive for researc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secondary/inferior to mainstream system for ethical review - huge investment in Operational Standar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 Narrow"/>
              </a:rPr>
              <a:t>Working the Operational Standard for Māori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Respect for Persons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92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Māori worldview is not recognised/respect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never seek/promote opportunities to incorporate collective view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 Narrow"/>
              </a:rPr>
              <a:t>Working the Operational Standard for Māori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Informed Consent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research objectives are unfamiliar – language/purpose of communication is stran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Māori worldview is never presented, no information about mātauranga Māori risks/content/consequences, individual consent paramount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if not fully informed of content, risks and intentions then consent is not consent at a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opportunities for collective consent are not explored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 Narrow"/>
              </a:rPr>
              <a:t>Working the Operational Standard for Māori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Privacy/Confidentiality &amp; Validity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privacy &amp; confidentialit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how do we operationalise MREChanisms for collective ownershi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is screening of medical files/data to identify potential participants acceptable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little public awareness of th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access restricted to medical syste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external researchers not able to exploit this opportunity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valid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no analysis of research paradigm from a matauranga Māori point of view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researchers do not have the skil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not addressed in consultation proces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075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 Narrow"/>
              </a:rPr>
              <a:t>Working the Operational Standard for Māori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Minimisation of Harm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how do we protect against marginalisation of Māori identity, socialisation of globalised values, dismantling of  cultural base?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no systems for tracking/monitoring/reporting on Māori participation i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studies especially tissue/gene storage/banking studies (nationally/internationally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further use of data/tissue sampl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access to samples with/without consent including diagnostic slides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whether/when samples are destroyed/returne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increasing use of de-identification techniques (breaking the link) - not able to seek consen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not able to answer protection/kaitiakitanga question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who/where/why/how/whe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systems for Māori ownership of data/samples intellectual/cultural proper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systems always lag behind technology e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MREC lack basic training/information on relevant issues, eg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where are the tissue/data collection/storage system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who holds/stores diagnostic slid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who are the decision-make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 Narrow"/>
              </a:rPr>
              <a:t>Working the Operational Standard for Māori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Justice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for whom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how do we acknowledge Māori cultural and intellectual property rights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oW principles, rights and responsibilities not widely understood/appli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 Narrow"/>
              </a:rPr>
              <a:t>Working the Operational Standard for Māori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Cultural &amp; Social Responsibility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inadequate/unsatisfactory consult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no consistency in frameworks/models for decision-mak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lack of clarity around manawhenua/mataawaka processes – reporting, feedback, involvement in decision-making, representation at DHB level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raining/education on Māori worldviews/ethical issues neede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no systems for monitoring quality/appropriatenes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implementation of Māori ethical framework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how do we increase opportunities for Māori to participate in society as Māori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never look at impacts of research on cultural identit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never enough time to explore issues properly in EC meetings/cannot be rigidly appli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40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40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40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Operation Standard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2f1311"/>
                </a:solidFill>
                <a:latin typeface="Arial"/>
              </a:rPr>
              <a:t>- Principles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respect for person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privacy &amp; confidentia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valid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minimisation of har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cultural/social responsibi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compensation for research participa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Solutions &amp; Re-solutions?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Pū Tai Ora 2005 outcomes/action points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develop strategies for improving MREC accountability to whānau/hapū/iwi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MREC to embrace education rol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raining on data/information collection in NZ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develop consensus statements for inclusion in PI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consultation accreditation/quality assurance proces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implement auditing/monitoring process – likely to be HR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informed of NEAC responsibility for Māori ethics framewor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discussion document due end 200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NEAC commitment to improve communications with MREC especially on  framework issu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MoH to draw up structure diagram showing position and location of key decision-makers/stakeholders/bodies/structures on ethical issues eg SCOTT, GTAC, NEAC, RE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Solutions &amp; Re-solutions? cont’d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Pū Tai Ora 2006 discussion points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Section F amendments – cultural and social responsibilit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HRCEC clarification of confusion around consultation with Māori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NEAC presentation on Māori Ethics Framework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Ngā Pae/ESR doctoral research scholarship to explore ways in which whānau, hapū, iwi and Māori might exercise kaitiakitanga over genetic inform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Ano te ataahua o te nohotahitanga a ngā taina me ngā tuakana i raro i te whakaaro kotahi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Pū Tai Ora themes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tikanga Māori – collective identity, cultural safety, kaumatua suppor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Māori ethical principles – implementation of ToW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training/education - quality of consultation/representation/ disseminati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self-determination, authority, autonom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Māori ethical principles/models for decision-mak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education/wananga/training, developing body of knowledge/expertis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consistency/solidari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partnership eg Te Noho Kotahitanga (rangatiratanga, wakaritenga, kaitiakitanga, mahi kotahitanga, ngakau mahaki)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representation within whānau/hapū/iwi, quality of consultation, support process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requested resources to develop Māori framework for ethical review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Pū Tai Ora themes cont’d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kaitiakitanga/tikanga Māor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Māori EC members as kaitiaki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protecting the future, precautionary princip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promotion of mana Māori, mana whenua, mana tangat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strategic planning, development of knowledge-base/expertis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ownership/responsibility/accountability for research proces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quality of consultation with Māor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models for assessing appropriateness/risk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need for Māori auditing proces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development of Kaitiaki guidelines – do no “harm” from Māori  perspective, knowledge driven by know-why, protection of mātauranga Māor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815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informed consent – collective or individua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requested resources to develop Māori framework for ethical review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ui Whakapiripiri 1996 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Māori health research eth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need for strategic direc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MREChanisms for guardianship &amp; protec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what is worthy of protection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need for kaitiaki (national committee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concerns about genetic engineer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ikanga/kaupapa Māori as guiding princi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related to ‘being Māori’ – language, culture, outcom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connected to Māori philosophy and princip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concerned with struggle for autonomy over cultural wellbe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ui Whakapiripiri 1996 – cont’d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f1311"/>
                </a:solidFill>
                <a:latin typeface="Arial"/>
              </a:rPr>
              <a:t>Hongoeka Declar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endorsed Mataatua Declaration (1993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rights of indigenous peoples’ over their cultural and intellectual propert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commitment to kaitiakitang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research that contributes to whānau/hapū/iwi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regaining rangatiratanga/self-determinat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overcoming negative impacts of colonisat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e Tiriti as the  basis for partnershi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kaupapa Māori methodologie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accountable to whānau/hapū/iw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focus on past, present and futu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monitoring impact and implication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ui Whakapiripiri 1996 – cont’d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921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Mataatua Declaration on the cultural &amp; Intellectual Property Rights of Indigenous People 199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urgent need for kaitiakitanga (protection MREChanisms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recognise that indigenous peoples are the guardians of their customary knowledge and cultural tradition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moratorium on further commercialisation of indigenous plants/human genetic materials until protection MREChanisms are in plac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f1311"/>
                </a:solidFill>
                <a:latin typeface="Arial"/>
              </a:rPr>
              <a:t>the first beneficiaries of cultural and intellectual propoerty of indigenous people must be the indigenous people themselv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3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Role of </a:t>
            </a:r>
            <a:r>
              <a:rPr b="1" lang="en-NZ" sz="3600" spc="-1" strike="noStrike" u="sng">
                <a:solidFill>
                  <a:srgbClr val="2f1311"/>
                </a:solidFill>
                <a:uFillTx/>
                <a:latin typeface="Arial"/>
              </a:rPr>
              <a:t>Māori</a:t>
            </a:r>
            <a:r>
              <a:rPr b="1" lang="en-NZ" sz="3600" spc="-1" strike="noStrike">
                <a:solidFill>
                  <a:srgbClr val="2f1311"/>
                </a:solidFill>
                <a:latin typeface="Arial"/>
              </a:rPr>
              <a:t> EC members</a:t>
            </a:r>
            <a:br>
              <a:rPr sz="3600"/>
            </a:br>
            <a:r>
              <a:rPr b="0" lang="en-NZ" sz="3600" spc="-1" strike="noStrike">
                <a:solidFill>
                  <a:srgbClr val="2f1311"/>
                </a:solidFill>
                <a:latin typeface="Arial Narrow"/>
              </a:rPr>
              <a:t>Hui Whakatipu/piripiri 1997</a:t>
            </a:r>
            <a:endParaRPr b="1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21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Ethics/Intellectual Propert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training on Māori ethical principles/issu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need for kaitiakitanga (protection MREChanisms)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tikanga Māori research/decision-making model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ownership/quality control of data, process, outcome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accountability to whānau/hapū/iw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endorsement of Hongoeka Declaration 1996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support for a national Māori health research ethics committ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kaitiaki function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implementation of ToW principle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equity with tauiwi structure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also supported at Te Ara Ahu Whakamua 1994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f1311"/>
                </a:solidFill>
                <a:latin typeface="Arial"/>
              </a:rPr>
              <a:t>Gastric Cancer Susceptibility Project (Parry Guilford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an example of succes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partnership with whānau/researche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joint ownership of data/tissue/intellectual/commercial proper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involved collection/banking of gene/tissue sampl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2f1311"/>
                </a:solidFill>
                <a:latin typeface="Arial"/>
              </a:rPr>
              <a:t>provided model for working with Māor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1:19:19Z</dcterms:created>
  <dc:creator>Stephanie Palmer</dc:creator>
  <dc:description/>
  <dc:language>en-US</dc:language>
  <cp:lastModifiedBy>Stephanie Palmer</cp:lastModifiedBy>
  <dcterms:modified xsi:type="dcterms:W3CDTF">2009-01-27T01:54:07Z</dcterms:modified>
  <cp:revision>50</cp:revision>
  <dc:subject/>
  <dc:title>Slide 1</dc:title>
</cp:coreProperties>
</file>