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348000" y="5076720"/>
            <a:ext cx="5796000" cy="1781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6070680"/>
            <a:ext cx="321948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 Tauranga W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action-plan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for addressing Māori concerns about the process for ethical review of research involving human be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494172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ūtaiora Writ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7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ika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llect baselin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derstand the representation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35280" y="476280"/>
            <a:ext cx="521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ika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mpower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onitor  Operation 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ack progress in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492360" y="189000"/>
            <a:ext cx="540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9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ika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277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porting on the “special”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03640" y="836640"/>
            <a:ext cx="54720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kap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ationale, purpose for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alytical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nitors progress and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yer upon layer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framework for gathering, organising, making sens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weaving information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enerating knowledge, wisdom, 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akapapa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cess of analys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reation of mātauranga Mā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stablishment of a platform for knowing and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athway that will lead to kaitiakit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mpletely and utterly dependent on breadth and quality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āori must actively and pro-actively engage in weaving together the various strands of information that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kap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948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724120" y="1509840"/>
            <a:ext cx="39974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kap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o” is weaving the whakapapa toge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āori Advisory Committ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āori Commission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ational Māori Ethics Committ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elegated Māori leade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at” are the benefits and implic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apacity to generate knowledge about kaitiakit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eaningfully consider, respond to, provide leadership on wider, more complex issues 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empowerment of the representa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k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consensus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ātauranga Mā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eco-connectedness, protection of species, synergistic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risks and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ow” is kaitiakitanga sustai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 Tauranga W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mpowering  the represen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athering and reporting releva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vesting in analysis to gene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NZ’s system of ethic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rnational codes &amp;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atutory/constitutional prov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W, Human Rights Act, Privac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etwork of advisory/decision-making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RCEC, GTAC, SCOTT, DMCC, ANCTR, ECA, ACART, ECART, NEAC,HDECs (x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ultiple terms of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peratio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uiding/ethical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itional issues for Mā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peration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8459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assura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rea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tection of Māori cultur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ive consent, tikanga,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a language that is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alid contribution to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no harm, hopefully do some g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tection &amp; Participation (HDE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āori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a whenua/mataawaka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ūtaiora annual 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ction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RC guidelines, impact on Māori, consistent with Treaty, evidence of consul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oc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gress/end of stud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nua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many read HRC guidelines, appropriate consultation, process/mechanisms for consul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tection &amp; Participation (EC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āori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search applic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are cultural issues addressed including ToW in all aspects of resear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dical specialists for donors/recip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will different ethical, spiritual, cultural perspectives in society, including the needs &amp;  beliefs of Māori be considered and trea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unsel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was service culturally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 have whakapapa, and the needs, values, beliefs of Māori been consider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key person statement eg kauma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nual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thnicity of donors/recipients having fertility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y a Māori Ethics Fra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lf-nomin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ppointed as individuals not collective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urden/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na whenua not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HB/universit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redibility, reliability,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adequate Section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ver-ruled by other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isempowered b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xpedited review (14-3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mātauranga Mā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sent is not consent at all if not in language that can be underst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rans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 informing process of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 collecting key data on responses to cultur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t 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 Tauranga W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28480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o” has the legitimate power and authority to represent Māori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sultation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āori EC me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” do they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ātauranga Māo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kaitiakitan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t is the Māori view on kaitiakitang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w” do we empower the represen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4:02:17Z</dcterms:created>
  <dc:creator>Stephanie Palmer</dc:creator>
  <dc:description/>
  <dc:language>en-US</dc:language>
  <cp:lastModifiedBy>Stephanie Palmer</cp:lastModifiedBy>
  <dcterms:modified xsi:type="dcterms:W3CDTF">2009-09-02T22:00:38Z</dcterms:modified>
  <cp:revision>9</cp:revision>
  <dc:subject/>
  <dc:title>Te Pouherenga Waka</dc:title>
</cp:coreProperties>
</file>